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C097-14A8-4A21-A45A-24B8C521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029-CDF7-4F56-8920-0FC06860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9FC-A08A-458A-BEF6-75333A61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0E1-818D-4030-ADF8-3BC93E03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DEE-615E-421F-B8ED-C37E6595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782-5126-46D6-BB74-7572AE77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672-EA20-414A-B3EA-3E97065F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5CB-BB76-4DCB-9325-A56817B2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780-896F-48EE-AAA9-70AEA9CF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11E-9E2A-46E1-B25C-92D86AD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56D-E158-45D0-A39B-E42EFBF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012-EA18-4EEB-9C6A-595F74B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715-86E1-4562-B330-F9D3F111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2D03-23BF-41EC-88A0-C88361F99B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hyperlink" Target="http://ww.fruitfly.org/annot/apollo/install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Apollo Future Plans</a:t>
            </a:r>
            <a:br>
              <a:rPr sz="4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omi Harris, BDGP/FlyBa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6383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Cam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7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new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ptide view (similar to Exon Detail Editor--would let you annotate cleavage sites, disulfide bond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vie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rtunities for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486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upport for fragmentary geno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omes now being sequenced to low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pport for viewing partial genomic assemb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bst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be able to click on a Web link (e.g. for a transposable element) and have it launch Apollo on appropriate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webstart progr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mpty Apollo (platform-indepen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Apollo on specific region (but only with certain browsers on Linu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platform and browser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ME XML DT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XML is still the most completely supported format in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GAME XML DTD (be sure to document "magic" properties, e.g. translation exce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groups trying to convert their data to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design ti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ndication of whether a tier is expanded or collap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 labels/buttons on separate panel that scrolls along with main pa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s launch tier/type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t tiers that can be dragged around and overl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kinds of tiers, e.g. graphs (like GC content or gene den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ynteny view more robust as an editor (has mostly been tested as a brows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distinction between single-species Apollo and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now, Synteny view assumes two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always be in n-species mode, where sometimes n=1, sometimes n=2, and sometimes n&gt;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ble to read data for different species from different  ada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nteny navigation from whole-chromosome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user to navigate between multiple disjoint contigs (e.g. for D. pseudoobsc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imilarity graph to show amount of conservation between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links with response to similarity graph threshol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ways to present comparativ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Base/Berke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 contribu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Searle, Michele Clamp, Vivek I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Rich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Base cu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oodstein (added regexps to Find; read/write JGI relational 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do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nathan Crab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.fruitfly.org/annot/apollo/install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o/redo individual 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te transcript, change 3’ end, add com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tion recording is first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alysis adap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barrier to importing data into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 read raw analysis results (BLAST, sim4, GENSCAN, etc.) and filter appropriately (using integrated B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debugging raw analysis loader; improve user interface;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genomic to be subject (not just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figure out coordinate offset of analysis results by doing simple alig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bining data adapters for concurrent loa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the ability to request data from multiple different sources from a single “Open” requ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 directory containing various raw analysis results on a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should figure out which type of results each file contains and parse/filter them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define default filtering parameters for each input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 data from multipl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n XML file and then overlay with a GenBank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do adap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TIGR’s (JD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-comp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zy/selective loading for improved performance (time &amp;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embl db adapter does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x memory lea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llo uses a lo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leaks needlessly wast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s slowly on smaller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ven freeze up your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Bank reader/wri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/debug new GenBank r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Apollo to write human-readable GenBank format (currently only writes feature 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able2human conver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call table2asn (so you can run Sequ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otation of new feature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possible to annotate non-gene features, e.g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NAs, peptides, transposable elements, sequence variation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pollo to read SO and use hierarchy of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the annotation of sequences other than geno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ssible new editing interfaces neede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variation editor to annotate differences between current reference sequence and relat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tate SNPs and other allel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ced-together gen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size of in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vertebrate gen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4-04-27T01:49:54Z</dcterms:modified>
  <cp:revision>378</cp:revision>
  <dc:subject/>
  <dc:title>Slide 1</dc:title>
</cp:coreProperties>
</file>